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73.png" ContentType="image/png"/>
  <Override PartName="/ppt/media/image55.jpeg" ContentType="image/jpeg"/>
  <Override PartName="/ppt/media/image43.png" ContentType="image/png"/>
  <Override PartName="/ppt/media/image53.jpeg" ContentType="image/jpeg"/>
  <Override PartName="/ppt/media/image52.jpeg" ContentType="image/jpeg"/>
  <Override PartName="/ppt/media/image1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54.jpeg" ContentType="image/jpeg"/>
  <Override PartName="/ppt/media/image47.pct" ContentType="image/x-pict"/>
  <Override PartName="/ppt/media/image46.png" ContentType="image/png"/>
  <Override PartName="/ppt/media/image45.png" ContentType="image/png"/>
  <Override PartName="/ppt/media/image57.jpeg" ContentType="image/jpeg"/>
  <Override PartName="/ppt/media/image63.png" ContentType="image/png"/>
  <Override PartName="/ppt/media/image41.png" ContentType="image/png"/>
  <Override PartName="/ppt/media/image37.jpeg" ContentType="image/jpeg"/>
  <Override PartName="/ppt/media/image36.jpeg" ContentType="image/jpeg"/>
  <Override PartName="/ppt/media/image35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6.jpeg" ContentType="image/jpeg"/>
  <Override PartName="/ppt/media/image18.jpeg" ContentType="image/jpeg"/>
  <Override PartName="/ppt/media/image49.pct" ContentType="image/x-pict"/>
  <Override PartName="/ppt/media/image19.jpeg" ContentType="image/jpeg"/>
  <Override PartName="/ppt/media/image20.jpeg" ContentType="image/jpeg"/>
  <Override PartName="/ppt/media/image29.png" ContentType="image/png"/>
  <Override PartName="/ppt/media/image62.pct" ContentType="image/x-pict"/>
  <Override PartName="/ppt/media/image21.jpeg" ContentType="image/jpeg"/>
  <Override PartName="/ppt/media/image65.png" ContentType="image/png"/>
  <Override PartName="/ppt/media/image80.jpeg" ContentType="image/jpeg"/>
  <Override PartName="/ppt/media/image59.png" ContentType="image/png"/>
  <Override PartName="/ppt/media/image42.png" ContentType="image/png"/>
  <Override PartName="/ppt/media/image26.jpeg" ContentType="image/jpeg"/>
  <Override PartName="/ppt/media/image15.jpeg" ContentType="image/jpeg"/>
  <Override PartName="/ppt/media/image71.jpeg" ContentType="image/jpeg"/>
  <Override PartName="/ppt/media/image70.jpeg" ContentType="image/jpeg"/>
  <Override PartName="/ppt/media/image5.png" ContentType="image/png"/>
  <Override PartName="/ppt/media/image69.jpeg" ContentType="image/jpeg"/>
  <Override PartName="/ppt/media/image68.jpeg" ContentType="image/jpeg"/>
  <Override PartName="/ppt/media/image67.jpeg" ContentType="image/jpeg"/>
  <Override PartName="/ppt/media/image66.png" ContentType="image/png"/>
  <Override PartName="/ppt/media/image24.jpeg" ContentType="image/jpeg"/>
  <Override PartName="/ppt/media/image83.jpeg" ContentType="image/jpeg"/>
  <Override PartName="/ppt/media/image64.png" ContentType="image/png"/>
  <Override PartName="/ppt/media/image77.jpeg" ContentType="image/jpeg"/>
  <Override PartName="/ppt/media/image6.png" ContentType="image/png"/>
  <Override PartName="/ppt/media/image76.jpeg" ContentType="image/jpeg"/>
  <Override PartName="/ppt/media/image60.png" ContentType="image/png"/>
  <Override PartName="/ppt/media/image17.jpeg" ContentType="image/jpeg"/>
  <Override PartName="/ppt/media/image78.jpeg" ContentType="image/jpeg"/>
  <Override PartName="/ppt/media/image61.jpeg" ContentType="image/jpeg"/>
  <Override PartName="/ppt/media/image40.png" ContentType="image/pn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12.jpeg" ContentType="image/jpeg"/>
  <Override PartName="/ppt/media/image81.jpeg" ContentType="image/jpeg"/>
  <Override PartName="/ppt/media/image22.jpeg" ContentType="image/jpeg"/>
  <Override PartName="/ppt/media/image39.png" ContentType="image/png"/>
  <Override PartName="/ppt/media/image79.jpeg" ContentType="image/jpeg"/>
  <Override PartName="/ppt/media/image7.png" ContentType="image/png"/>
  <Override PartName="/ppt/media/image34.jpeg" ContentType="image/jpeg"/>
  <Override PartName="/ppt/media/image14.jpeg" ContentType="image/jpeg"/>
  <Override PartName="/ppt/media/image82.jpeg" ContentType="image/jpeg"/>
  <Override PartName="/ppt/media/image23.jpeg" ContentType="image/jpeg"/>
  <Override PartName="/ppt/media/image8.png" ContentType="image/png"/>
  <Override PartName="/ppt/media/image38.png" ContentType="image/png"/>
  <Override PartName="/ppt/media/image9.jpeg" ContentType="image/jpeg"/>
  <Override PartName="/ppt/media/image11.jpeg" ContentType="image/jpeg"/>
  <Override PartName="/ppt/media/image28.png" ContentType="image/png"/>
  <Override PartName="/ppt/media/image27.jpeg" ContentType="image/jpeg"/>
  <Override PartName="/ppt/media/image10.jpeg" ContentType="image/jpeg"/>
  <Override PartName="/ppt/media/image48.pct" ContentType="image/x-pict"/>
  <Override PartName="/ppt/media/image74.jpeg" ContentType="image/jpeg"/>
  <Override PartName="/ppt/media/image13.jpeg" ContentType="image/jpeg"/>
  <Override PartName="/ppt/media/image44.png" ContentType="image/png"/>
  <Override PartName="/ppt/media/image7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BC63-1063-4ECB-9263-BAD76614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2225-18F3-42D2-9C44-F7B30602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FA18-A6EC-4F1C-94C5-CDF548FF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5CE9-BE03-46B9-AA50-1B101081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E6E-33F1-48DB-AC35-CEB90867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B413-2DB1-4225-9B9C-F36AFF65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7514-9FEE-481D-8258-F6751F6C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4F90-D57D-4459-8B41-5E48321F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1FC-FEAF-4B13-A42F-AE78B584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58BA-09B4-41A6-A4F1-81D19C31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A9FC-499D-491C-BAF5-C28C401A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B455-4A73-467E-9A4F-5BD9B040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90F9-F9BD-491A-9201-96D0430F7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ct"/><Relationship Id="rId2" Type="http://schemas.openxmlformats.org/officeDocument/2006/relationships/image" Target="../media/image48.pct"/><Relationship Id="rId3" Type="http://schemas.openxmlformats.org/officeDocument/2006/relationships/image" Target="../media/image49.pct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ct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2.pct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2.pct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pct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5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4440" y="228600"/>
            <a:ext cx="8724960" cy="26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gh-Resolution Spectroscopy of OB Stars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mission Line Profiles to Constrain Wind Kinematics, Geometry, and Opa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34080" y="3428640"/>
            <a:ext cx="41148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H. Co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. of Physics and Astr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thmore 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ch of this work was performed by Swarthmore seniors Roban Kramer and Stephanie Tonn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12960" y="3403440"/>
            <a:ext cx="1859040" cy="3048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8760" y="3382920"/>
            <a:ext cx="2133360" cy="1519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28760" y="5024520"/>
            <a:ext cx="213336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522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in these instability shock models, most of the wind is cold and is a source of X-ray continuum o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3080" y="2152800"/>
            <a:ext cx="341136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ssive winds of O stars are expected to b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tically thi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soft X-rays…the inner tens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y be heavily absorbed: or so it was thoug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velength depende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individual lines leads to the expectation that different absorption characteristics will be seen in different lines from a given st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89440" y="2057400"/>
            <a:ext cx="4781520" cy="4800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883120" y="1589040"/>
            <a:ext cx="77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 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42160" y="158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 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213600" y="2179440"/>
            <a:ext cx="0" cy="3352680"/>
          </a:xfrm>
          <a:prstGeom prst="line">
            <a:avLst/>
          </a:prstGeom>
          <a:ln cap="rnd" w="15840">
            <a:solidFill>
              <a:srgbClr val="8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191360" y="2204640"/>
            <a:ext cx="0" cy="3352680"/>
          </a:xfrm>
          <a:prstGeom prst="line">
            <a:avLst/>
          </a:prstGeom>
          <a:ln cap="rnd" w="15840">
            <a:solidFill>
              <a:srgbClr val="8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07440" y="3238560"/>
            <a:ext cx="137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utral (ISM) cross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800760" y="3840120"/>
            <a:ext cx="74952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33840" y="5041800"/>
            <a:ext cx="13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d cross section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851440" y="4632120"/>
            <a:ext cx="61920" cy="40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9480" y="3049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and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chive of Hot St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9144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 of the pathetically small effective area of the gratings, only a handful of single OB stars can produce high-quality spectra – maybe a dozen total; we will look at several representative single OB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52560" y="2209680"/>
          <a:ext cx="7238880" cy="300672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. T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d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n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4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 (-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9.5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-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9.7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-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ri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7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(-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 G dipole magnetic f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0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(-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usually X-ray bright and h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0.5 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(-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, but more 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0.5 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5(-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a Cep va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23960" y="76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appearance of spectra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nd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4113360" cy="1828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4114800" cy="1857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0880" y="4267080"/>
            <a:ext cx="4113360" cy="1819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724280" y="609480"/>
            <a:ext cx="4113360" cy="1828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4724280" y="2438280"/>
            <a:ext cx="4114800" cy="1868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4724280" y="4267080"/>
            <a:ext cx="4114800" cy="1828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76720" y="76212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500"/>
              </a:spcBef>
              <a:buClr>
                <a:srgbClr val="bbe0e3"/>
              </a:buClr>
              <a:buFont typeface="Symbol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P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(O4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2590920"/>
            <a:ext cx="99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bbe0e3"/>
              </a:buClr>
              <a:buFont typeface="Symbol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(O9.5 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4419720"/>
            <a:ext cx="99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bbe0e3"/>
              </a:buClr>
              <a:buFont typeface="Symbol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(O9.7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5200" y="7621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30000">
                <a:solidFill>
                  <a:srgbClr val="bbe0e3"/>
                </a:solidFill>
                <a:latin typeface="Symbol"/>
                <a:ea typeface="Symbol"/>
              </a:rPr>
              <a:t>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Ori C </a:t>
            </a: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(O7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96080" y="2590920"/>
            <a:ext cx="990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bbe0e3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Times New Roman"/>
              </a:rPr>
              <a:t>(B0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8960" y="4314960"/>
            <a:ext cx="964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buClr>
                <a:srgbClr val="bbe0e3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C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(B0.5 I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6248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6248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7480" y="6248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6095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6095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6095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6095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76240" y="76320"/>
            <a:ext cx="7391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in on a characteristic portion of the spectr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6192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clearly a range of line profile morphologies from star to 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4113360" cy="1676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4114800" cy="1676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80880" y="4114800"/>
            <a:ext cx="4114800" cy="1523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648320" y="762120"/>
            <a:ext cx="4114800" cy="1676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648320" y="2438280"/>
            <a:ext cx="4114800" cy="1676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4648320" y="4114800"/>
            <a:ext cx="4114800" cy="1523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71600" y="5715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5683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5715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 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5715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 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5715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 XV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24680" y="5715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 XV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91440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buClr>
                <a:srgbClr val="bbe0e3"/>
              </a:buClr>
              <a:buFont typeface="Symbol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P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(O4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259092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buClr>
                <a:srgbClr val="bbe0e3"/>
              </a:buClr>
              <a:buFont typeface="Symbol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(O9.5 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4191120"/>
            <a:ext cx="990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(O9.7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914400"/>
            <a:ext cx="137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 baseline="30000">
                <a:solidFill>
                  <a:srgbClr val="bbe0e3"/>
                </a:solidFill>
                <a:latin typeface="Symbol"/>
                <a:ea typeface="Symbol"/>
              </a:rPr>
              <a:t></a:t>
            </a:r>
            <a:r>
              <a:rPr b="0" lang="en-US" sz="16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Ori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(O7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62920" y="2567160"/>
            <a:ext cx="9903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1001"/>
              </a:spcBef>
              <a:buClr>
                <a:srgbClr val="bbe0e3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Times New Roman"/>
              </a:rPr>
              <a:t>(B0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8080" y="4267080"/>
            <a:ext cx="9640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buClr>
                <a:srgbClr val="bbe0e3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C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(B0.5 I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4572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4572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7680" y="44136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77320" y="4572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43000" y="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s in the line shapes become apparent when we look at a single line (here Ne X, L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04920" y="472428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200400" y="106668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3200400" y="289548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200400" y="472428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6095880" y="1066680"/>
            <a:ext cx="2667240" cy="1778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6095880" y="2895480"/>
            <a:ext cx="2667240" cy="1778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6095880" y="4724280"/>
            <a:ext cx="2667240" cy="1778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9810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Symbol"/>
                <a:ea typeface="Symbol"/>
              </a:rPr>
              <a:t>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Baskerville Semibold"/>
              </a:rPr>
              <a:t>P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30621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Symbol"/>
                <a:ea typeface="Symbol"/>
              </a:rPr>
              <a:t>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Baskerville Semibold"/>
              </a:rPr>
              <a:t>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48769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Baskerville Semibold"/>
              </a:rPr>
              <a:t>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1295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30000">
                <a:solidFill>
                  <a:srgbClr val="bbe0e3"/>
                </a:solidFill>
                <a:latin typeface="Symbol"/>
                <a:ea typeface="Symbol"/>
              </a:rPr>
              <a:t>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Baskerville Semibold"/>
              </a:rPr>
              <a:t>Ori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04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Baskerville Semibold"/>
              </a:rPr>
              <a:t>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4876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Baskerville Semibold"/>
              </a:rPr>
              <a:t>C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1295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Baskerville Semibold"/>
              </a:rPr>
              <a:t>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0120" y="3062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Baskerville Semibold"/>
              </a:rPr>
              <a:t>AB Dor </a:t>
            </a:r>
            <a:r>
              <a:rPr b="0" lang="en-US" sz="1400" spc="-1" strike="noStrike">
                <a:solidFill>
                  <a:srgbClr val="bbe0e3"/>
                </a:solidFill>
                <a:latin typeface="Baskerville Semibold"/>
              </a:rPr>
              <a:t>(K1 V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67480" y="48769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Baskerville Semibold"/>
              </a:rPr>
              <a:t>Capella </a:t>
            </a:r>
            <a:r>
              <a:rPr b="0" lang="en-US" sz="1400" spc="-1" strike="noStrike">
                <a:solidFill>
                  <a:srgbClr val="bbe0e3"/>
                </a:solidFill>
                <a:latin typeface="Baskerville Semibold"/>
              </a:rPr>
              <a:t>(G2 I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67480" y="3962520"/>
            <a:ext cx="22860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209680"/>
            <a:ext cx="22860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4038480"/>
            <a:ext cx="22860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990720"/>
            <a:ext cx="0" cy="5638680"/>
          </a:xfrm>
          <a:prstGeom prst="line">
            <a:avLst/>
          </a:prstGeom>
          <a:ln cap="rnd" w="93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07000" y="990720"/>
            <a:ext cx="0" cy="5638680"/>
          </a:xfrm>
          <a:prstGeom prst="line">
            <a:avLst/>
          </a:prstGeom>
          <a:ln cap="rnd" w="93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96360" y="990720"/>
            <a:ext cx="0" cy="5638680"/>
          </a:xfrm>
          <a:prstGeom prst="line">
            <a:avLst/>
          </a:prstGeom>
          <a:ln cap="rnd" w="93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00280" y="228600"/>
            <a:ext cx="75438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let’s focus on individual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p: prototypical O supergiant wi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can look at the line profile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n-parametrical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are they blueshifted? asymmetric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54864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lculate the first fou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each line profile: the first moment is proportional to the wavelength shift while the third moment, the skewness, is an indicator of asymm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68588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64832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876240" y="2590920"/>
            <a:ext cx="7391160" cy="3581280"/>
            <a:chOff x="876240" y="2590920"/>
            <a:chExt cx="7391160" cy="358128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876240" y="2590920"/>
              <a:ext cx="290880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3754080" y="2936520"/>
              <a:ext cx="4513320" cy="322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/>
          <p:nvPr/>
        </p:nvSpPr>
        <p:spPr>
          <a:xfrm>
            <a:off x="380880" y="15228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idea: fit lines with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mpl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el that can do the job, and use one that, while based in physics,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that any number of physical models can be tested or constrained based on the model fi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752480"/>
            <a:ext cx="8382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Owocki &amp; Cohen (2001): spherically symmetric, two-fluid (hot plasma is interspersed in the cold, x-ray absorbing bulk wind); beta velocity law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6172200"/>
            <a:ext cx="89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sualizations of the wind us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indicat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ine-of-sight veloc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indicat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missiv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 corresponding profiles are plotted vs. scaled velocity wher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-1,1 correspond to the terminal veloc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343400" y="76320"/>
            <a:ext cx="1601640" cy="2133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343400" y="2133720"/>
            <a:ext cx="1598760" cy="2133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343400" y="4191120"/>
            <a:ext cx="1598760" cy="2133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5638680" y="200160"/>
            <a:ext cx="3124440" cy="2009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3124440" cy="2065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5638680" y="4259160"/>
            <a:ext cx="3124440" cy="2065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632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l has four paramet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43080" y="838080"/>
                <a:ext cx="4000320" cy="20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: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/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:</m:t>
                        </m:r>
                        <m:sSup>
                          <m:e>
                            <m:r>
                              <m:t xml:space="preserve">jµ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/>
                        </m:sSub>
                        <m:r>
                          <m:t xml:space="preserve">: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/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  <m:r>
                                  <m:t xml:space="preserve">'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'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β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2438280" y="13716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3886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ine profile is calculated fro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6440" y="5013360"/>
            <a:ext cx="352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257800"/>
            <a:ext cx="35816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s lines broader; increas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s them more blueshifted and ske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228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96080" y="2362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96080" y="4419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640080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048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676520" y="2819520"/>
                <a:ext cx="14475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/>
                    </m:sSub>
                    <m:r>
                      <m:t xml:space="preserve">º</m:t>
                    </m:r>
                    <m:f>
                      <m:num>
                        <m:r>
                          <m:t xml:space="preserve">k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pR</m:t>
                            </m:r>
                          </m:e>
                          <m:sub/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¥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57200" y="4267080"/>
                <a:ext cx="33526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</m:nary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rd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1563840"/>
            <a:ext cx="3048120" cy="2170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048120" y="1563840"/>
            <a:ext cx="3047760" cy="2170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095880" y="1563840"/>
            <a:ext cx="3048120" cy="2170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0" y="3809880"/>
            <a:ext cx="3124080" cy="2222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3048120" y="3809880"/>
            <a:ext cx="3124080" cy="2225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6019920" y="3809880"/>
            <a:ext cx="3124080" cy="2224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85800" y="2286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fit all the (8) unblended strong lines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nd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ectrum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p: all the fits are statistically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1828800"/>
            <a:ext cx="1218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Semibold"/>
              </a:rPr>
              <a:t>Ne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Semibold"/>
              </a:rPr>
              <a:t>12.13 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8288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Semibold"/>
              </a:rPr>
              <a:t>Fe XVII 15.01 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24680" y="18288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Semibold"/>
              </a:rPr>
              <a:t>Fe XVII 16.78 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40384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Semibold"/>
              </a:rPr>
              <a:t>Fe XVII 17.05 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40384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Semibold"/>
              </a:rPr>
              <a:t>O VIII 18.97 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01000" y="396252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Semibold"/>
              </a:rPr>
              <a:t>N VII 24.78 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4495680" cy="32004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049800" y="2209680"/>
            <a:ext cx="1536840" cy="2590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484520" y="2209680"/>
            <a:ext cx="1586160" cy="2600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607160" y="2209680"/>
            <a:ext cx="1538280" cy="2590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17680" y="-15840"/>
            <a:ext cx="771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3049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la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certain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derived model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3080" y="5486400"/>
            <a:ext cx="84582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we show the best-fit model to the O VIII line and two models that are marginally (at the 95% limit) consistent with the data; they are the models with the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high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ow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s poss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19720" y="175248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owest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1752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17524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highest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23960" y="380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1343160"/>
            <a:ext cx="7391160" cy="50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: the context of hot star X-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the observations look lik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rends emerge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how can the properties of the individual stars and of the trends among lines and among stars be explained by the physical effects we expect might be present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p: wind x-rays, but less absorption than ex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i: similar situation, very little wind absorption; but wind-shock parameters are otherwise satisfa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etic OB stars are a different story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i C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co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o are normal B stars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u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ies and other types of ho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pects for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952880" y="42840"/>
            <a:ext cx="3733920" cy="31575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52280" y="2895480"/>
            <a:ext cx="3886200" cy="3324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5181480" y="3432240"/>
            <a:ext cx="3505320" cy="30448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0880" y="22860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al depiction of the best fit (black circles) and 95% confidence limits (gray triangles) on the three fitted parameters for seven of the lines in t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p spectru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3595680"/>
            <a:ext cx="7621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243000"/>
            <a:ext cx="762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95480" y="3062160"/>
            <a:ext cx="7621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533520" y="457200"/>
            <a:ext cx="8076960" cy="55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s are well fit by our four parameter model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ctually held constant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; so three free parameters)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p’s X-ray lines are consistent with a spatially distributed, spherically symmetric, radially accelerating wind scenario, with reasonable paramet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        :4 to 15 times less than predi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the level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 absorption is significantly be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at’s expec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, there’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ignificant wavelength depend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optical depth (or any paramete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0" y="1012680"/>
            <a:ext cx="4133880" cy="4557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69880" y="1362240"/>
            <a:ext cx="3591000" cy="4317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33520" y="152280"/>
            <a:ext cx="807696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several tenths of a stellar radius is expected based on numerical simulations of the line-force instabilit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elf-excited on the left; sound wave purturbations at the base of the wind on the righ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6640" y="5834160"/>
            <a:ext cx="815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the X-ray-emitting plasma near the photosphere is indicated by He-li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/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s (Kahn et al.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038480" y="1066680"/>
            <a:ext cx="4861080" cy="4876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324480" y="3276720"/>
            <a:ext cx="1143000" cy="1143000"/>
          </a:xfrm>
          <a:prstGeom prst="rect">
            <a:avLst/>
          </a:prstGeom>
          <a:noFill/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6019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otted line is interstel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91120" y="152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 opacity for canonical B star abund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5680" y="727200"/>
            <a:ext cx="366552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o expect some wavelength dependence of the cross sections (and thus of the wind optical depth), BUT the lines we fit cover only a modest range of wavelengths.  And in the case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p, nitrogen overabundance (not in calculation shown at right) could flatten out the wavelength dependence even mo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perhap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ump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lays a role.  And clumping (alt. “porosity”) certainly could play a role in the overall reduction of wind optical dept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1752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K-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400800" y="213372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838080" y="3808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the other O supergiants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i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i, fit into the wind-shock paradigm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1660680"/>
            <a:ext cx="5410080" cy="4329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334120" y="318600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486400" y="1600200"/>
            <a:ext cx="350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e X line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i (left) is skewed and blueshifted (&gt;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though not as much as the same line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p (be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81160" y="304920"/>
            <a:ext cx="69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ong lines in these other O supergiants can also be fit by the simple spherically symmetric win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170240" y="1571760"/>
            <a:ext cx="4973760" cy="3747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-166680" y="1600200"/>
            <a:ext cx="4892760" cy="36892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838080" y="15238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 Fe XVII 15.01 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15238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 O VIII 18.97 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52578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gh they are clearly less asymmetric and a little narr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22860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15200" y="22860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24000" y="228600"/>
            <a:ext cx="8496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-f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s are a few tenths, although a value of zero can be ruled out at the 95% confidence limit in all but one line…however, values above 0.5 or even 1 cannot be ruled out in most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876920" cy="4267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267080" y="1752480"/>
            <a:ext cx="4876920" cy="42674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23880" y="1676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Semibold"/>
              </a:rPr>
              <a:t>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1676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Semibold"/>
              </a:rPr>
              <a:t>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1486080"/>
            <a:ext cx="4800600" cy="44575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267080" y="1504800"/>
            <a:ext cx="4876920" cy="4438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523880" y="1447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Semibold"/>
              </a:rPr>
              <a:t>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91320" y="1447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Semibold"/>
              </a:rPr>
              <a:t>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228600"/>
            <a:ext cx="79250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radius of the onset of X-ray emission is within the first stellar radius above the photosphere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consistent with a height of 3/10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 less at the 95% confidence level for all the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5943600"/>
            <a:ext cx="8229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the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l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produce the relati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rrow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lines (compar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76280" y="380880"/>
            <a:ext cx="819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 for normal, O supergi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1640" y="1828800"/>
            <a:ext cx="8059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herically symmetric, standard wind-shock model fits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 level of continuum absorption in the wind must be reduced from expected values by factors of ~5 (clumping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93920" y="4702320"/>
            <a:ext cx="635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diagnostics (DEM, abundances, density-sensitive line ratios) provide information too; generally consistent with the standard pi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76240" y="3049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the stars with the harder X-rays and narrower lines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i C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co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4114800" cy="3584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14479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’s Ne X line overplotted with a delta function mod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53341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nes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o look more like those in coronal sources…and the lines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i C aren’t a whole lot broad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257720" y="1473120"/>
            <a:ext cx="4572000" cy="3922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561440" y="15843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88080" y="2836800"/>
            <a:ext cx="10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69360" y="3940200"/>
            <a:ext cx="11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93560" y="289080"/>
            <a:ext cx="815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ypes of Hot St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65360" y="1565280"/>
            <a:ext cx="4253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(effectively sing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sequence and evo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 star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rina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iding wind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82640" y="286056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-Doula and Owocki (2001) have performed MHD simulations of magnetically channelled winds: Equatorward flow inside closed field lines and associated strong shocks are s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5791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-component of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8000" y="301680"/>
            <a:ext cx="8126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 large x-ray luminosities and hard x-ray spectra already argue against instability-generated shock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ggest that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brid wind-magne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el might be appropriate, especially 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i C, on whic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100 G dipole field has been disco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76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-Doula has made models specific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i C, and included radiative cooling for the first tim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is a movie of density, evolving from an initial spherically symmetric steady-state wi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t1oc-265ks-rho" descr=""/>
          <p:cNvPicPr/>
          <p:nvPr/>
        </p:nvPicPr>
        <p:blipFill>
          <a:blip r:embed="rId1"/>
          <a:stretch/>
        </p:blipFill>
        <p:spPr>
          <a:xfrm>
            <a:off x="1249200" y="1138320"/>
            <a:ext cx="6566040" cy="5483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1619280" y="1373040"/>
            <a:ext cx="590544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t1oc-265ks-T" descr=""/>
          <p:cNvPicPr/>
          <p:nvPr/>
        </p:nvPicPr>
        <p:blipFill>
          <a:blip r:embed="rId1"/>
          <a:stretch/>
        </p:blipFill>
        <p:spPr>
          <a:xfrm>
            <a:off x="1114560" y="339840"/>
            <a:ext cx="6914880" cy="57751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162080" y="930240"/>
            <a:ext cx="6819840" cy="5695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766880" y="179280"/>
            <a:ext cx="56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1oc-265ks-speed-large" descr=""/>
          <p:cNvPicPr/>
          <p:nvPr/>
        </p:nvPicPr>
        <p:blipFill>
          <a:blip r:embed="rId1"/>
          <a:stretch/>
        </p:blipFill>
        <p:spPr>
          <a:xfrm>
            <a:off x="668160" y="0"/>
            <a:ext cx="7805880" cy="65199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162080" y="1014480"/>
            <a:ext cx="6819840" cy="5695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54120" y="189000"/>
            <a:ext cx="78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1oc-265ks-speed-low" descr=""/>
          <p:cNvPicPr/>
          <p:nvPr/>
        </p:nvPicPr>
        <p:blipFill>
          <a:blip r:embed="rId1"/>
          <a:stretch/>
        </p:blipFill>
        <p:spPr>
          <a:xfrm>
            <a:off x="1116000" y="609480"/>
            <a:ext cx="7015320" cy="5859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162080" y="947880"/>
            <a:ext cx="6819840" cy="56959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055520" y="169920"/>
            <a:ext cx="71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 (again), but with low speeds emphas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04920" y="2316240"/>
            <a:ext cx="2743200" cy="16462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200400" y="2313000"/>
            <a:ext cx="2743200" cy="1649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6095880" y="2313000"/>
            <a:ext cx="2743200" cy="16495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09480" y="1752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1752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00800" y="1752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152280" y="4114800"/>
            <a:ext cx="2971800" cy="990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"/>
          <a:stretch/>
        </p:blipFill>
        <p:spPr>
          <a:xfrm>
            <a:off x="2971800" y="4114800"/>
            <a:ext cx="3048120" cy="10144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6"/>
          <a:stretch/>
        </p:blipFill>
        <p:spPr>
          <a:xfrm>
            <a:off x="5943600" y="4140360"/>
            <a:ext cx="2971800" cy="9903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57200" y="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ooked at some snapshots from these simulations and synthesized line profil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d emission measure distributions and light curv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548640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throughout, the speed is in terms of an assumed terminal speed of 2500 km 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99072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first snapshot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i C is from a time when the hot plasma is relatively placid, filling the closed loop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0880" y="3808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eometry and viewing angle are relatively well established for this sta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1450800"/>
            <a:ext cx="3124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4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lt between the rotation axis and both the magnetic axis and the direction of the Earth: we see a full range of viewing angles of the magnetosphere, and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nd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servations for four of th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243320" y="1539720"/>
            <a:ext cx="4124520" cy="44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228600"/>
            <a:ext cx="7772400" cy="13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thus synthesize line profiles for a range of viewing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re we show 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looking down the magnetic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 contours are now line-of-sight velocity; and the black contours enclose plasma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276720" y="1825560"/>
            <a:ext cx="5638680" cy="34322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4419720" y="5187960"/>
            <a:ext cx="3411360" cy="11365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0" y="1814400"/>
            <a:ext cx="3957480" cy="39006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-1066680" y="1569960"/>
            <a:ext cx="5960880" cy="3351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248520" y="1523880"/>
            <a:ext cx="0" cy="457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571500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file is very narrow: see Mary Oksala’s poster for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593640" y="330120"/>
            <a:ext cx="80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gnetic OB stars, and normal B st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0160" y="1593720"/>
            <a:ext cx="75884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ically channeled wind-shock models are promising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i C, perhap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o): Schulz (AAS, 2003) has shown that O stars have these X-ray signatures for less than 1 million years on the main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B stars (lik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u, B0.5 IV) have very soft X-ray spectra and narrow lines: wind shocks if the X-ray wind isn’t moving very fast? Magnetically channeled wind shocks if the shocks aren’t very strong? Dynamo-driven coronae if our understanding of dynamos is incomplet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46120" y="282600"/>
            <a:ext cx="79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n there are some extreme cases, like the Be star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39560" y="1693800"/>
            <a:ext cx="4132440" cy="23940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57200" y="4154400"/>
            <a:ext cx="4114800" cy="25448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835520" y="21668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 with peak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2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30920" y="4317840"/>
            <a:ext cx="389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 X L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ne is broadened (HWHM ~ 500 km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81200" y="198360"/>
            <a:ext cx="75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s we’d like to address with high-resolution X-ray spectrosc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8160" y="2071800"/>
            <a:ext cx="78742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the nature of wind instabilites and shocks in normal hot stars?  Can this (class of) model(s) work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role do magnetic fields play in hot stars and their X-ray emission? (e.g. do B stars have coronae? How can young hot stars be so hot and bright in X-rays?  How can hot stars with extreme X-ray properties be understood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correct shock physics and radiation hydrodynamics at the interface between colliding winds? (e.g. how important is radiative braking? Hydrodynamic instabilitie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439560" y="1198440"/>
            <a:ext cx="3772080" cy="4857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28480" y="198360"/>
            <a:ext cx="67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: HETGS spectrum with iron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41920" y="1235160"/>
            <a:ext cx="401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y extreme magnetic activity associated with Be star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79320" y="39528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ther “extreme” hot st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2640" y="1301760"/>
            <a:ext cx="81169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lf-Rayet sta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etal enriched, very evolved, extremely dense winds: are actuall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y weak X-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urces, probably due to very large wind continuum o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i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ossibly the most luminous star in the galaxy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nd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orcoran et al.)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Leutenegger et al.) grating spectroscop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 star has very hard emiss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s are not very broa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ption and Fe fluoresce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/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nt 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iding wind bin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-ray e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46160" y="752400"/>
            <a:ext cx="6219720" cy="58863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47840" y="152280"/>
            <a:ext cx="85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 of colliding winds show complex hydro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34200" y="1036800"/>
            <a:ext cx="263988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i (J. Pittard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profiles have the potential to diagnose kinematics, shock phy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’s phase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ption and fluorescence from cold, post-shock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36400" y="609480"/>
            <a:ext cx="4677120" cy="58737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5402160" y="895320"/>
            <a:ext cx="33181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tive Braking (influence of one star’s radiation on the other star’s wind) is expected in some systems (figure from Gayley, Owocki, &amp; Cranmer 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-resolution spectroscopy of line emission can test th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3043080" y="1090440"/>
            <a:ext cx="5837400" cy="4086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584280" y="330120"/>
            <a:ext cx="82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profile models by D. Henley, I. Stevens (Birmingham,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271440" y="4390920"/>
            <a:ext cx="2990880" cy="23115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298680" y="5345280"/>
            <a:ext cx="541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should be in soon: WR 140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r (to be observed at periastron this mon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7760" y="1306440"/>
            <a:ext cx="240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test of the simplest aspects of wind-wind collis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801720" y="358920"/>
            <a:ext cx="7700760" cy="44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acting Wind 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profile analysis as a function of orbital phase can test the shock physics and the geometry, kinematics, and hydrodynamics of some of the most extreme sources in the gala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ing this information with other X-ray diagnostic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/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s, absorption and fluorescence, DEM analysis) will be very us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762120" y="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722160"/>
            <a:ext cx="822960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relatively wide variety of line profile morphologies seen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nd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servations of OB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combining line profile analysis with other diagnostics, it is becoming clear that a surprising variety of high-energy physical processes are occurring in early-type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stellation-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(er)-resolution line profile analysis of short-wavelength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ization structure of Fe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 better S/N and time coverage (X-ray line profile variability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t increases in the number of stars studied (is there a strong Malmquist bias in the current dat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35160" y="1089000"/>
            <a:ext cx="66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re talking about thermal, collisional/coronal, equilibrium, optically thin plasmas here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5720" y="334800"/>
            <a:ext cx="79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agnostics and Physical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3520" y="2660760"/>
            <a:ext cx="68169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s and overall emission levels: D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ities: line ratios…but also source location vi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/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ndances: line ratios and line-to-continuum rat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absorption: globally and within individual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tures of photoionization: fluor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Kinematics: line broadening and profile sh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7800" y="1252440"/>
            <a:ext cx="27068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 Cygni profiles in two hot stars: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4,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c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0 V, 50,000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ady-state theory is very successfu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explaining the time-average properties of hot-star wi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rot="21539400">
            <a:off x="3166560" y="650520"/>
            <a:ext cx="5970600" cy="568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44720" y="318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248520" y="1724040"/>
            <a:ext cx="12600" cy="2170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284880" y="4264200"/>
            <a:ext cx="1800" cy="1645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790800" y="1752480"/>
            <a:ext cx="12960" cy="2170080"/>
          </a:xfrm>
          <a:prstGeom prst="line">
            <a:avLst/>
          </a:prstGeom>
          <a:ln w="22320">
            <a:solidFill>
              <a:srgbClr val="99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413320" y="4266720"/>
            <a:ext cx="1800" cy="1646280"/>
          </a:xfrm>
          <a:prstGeom prst="line">
            <a:avLst/>
          </a:prstGeom>
          <a:ln w="22320">
            <a:solidFill>
              <a:srgbClr val="99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0360" y="0"/>
            <a:ext cx="84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 stars have massive, radiation-driven wi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87480" y="1228680"/>
            <a:ext cx="7466040" cy="5172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60280" y="0"/>
            <a:ext cx="866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t, hot star winds are not steady-state: They display lots of time variabilit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1600" y="1176480"/>
            <a:ext cx="213840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days of UV spectra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lor plot is the ratio of each spectrum to the mean spectrum (botto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ical and stochastic variability is seen in most hot stars’ wi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52560" y="1739880"/>
            <a:ext cx="5013360" cy="5118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0"/>
            <a:ext cx="8229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els of the winds show lots of structure: turbulence, shock waves, collisions between “cloud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haotic behavior is predicted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e X-ra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roug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ck-hea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some small fraction of the w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1452600"/>
            <a:ext cx="7315200" cy="5405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304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napshot at a single time from the same simulation.  Note the discontinuities in velocity.  These are shock fronts, compressing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ind, produc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20:23:59Z</dcterms:created>
  <dc:creator>David Cohen</dc:creator>
  <dc:description/>
  <dc:language>en-US</dc:language>
  <cp:lastModifiedBy>David Cohen</cp:lastModifiedBy>
  <dcterms:modified xsi:type="dcterms:W3CDTF">2003-05-06T06:46:52Z</dcterms:modified>
  <cp:revision>289</cp:revision>
  <dc:subject/>
  <dc:title>X-ray Emission Line Profile Diagnostics of Hot Star Winds: Constraints on Dynamics, Geometry, and Opacity</dc:title>
</cp:coreProperties>
</file>